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58C3-6D2C-4FB8-904E-6FF6BF74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080-F1E0-4C3A-9C93-2769C872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E01-125A-49B9-B21B-96129DE97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D483-35C7-4691-87A4-2EE02D10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A55-4B3E-4D49-A7DD-266AE98B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851-BFE1-4173-BF03-80CE5AD7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AC9-90A5-4EF2-94CC-E9D57A49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9BF-85BB-4B20-928C-D632ACE4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FDB9-F8CD-400D-A346-FDA7CA49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FB69-D59F-4946-B94F-AE057904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F65-79C7-4769-99DC-231B304A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6AB-9926-4AC5-A9E7-A4958B8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EBC-51BF-4278-8131-A3F33D8E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505-BB68-4A84-867C-7DB16E84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482-09D3-49C1-A6D2-82151D1C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F65-49F7-4DD3-A468-C847DC0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CB4-E736-4E30-B23D-61AC3098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C62-DE41-454B-A392-29F0264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199-FD88-43A3-9C20-A0E959FE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608-F746-44B7-BC04-D5C0336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44B-4A4B-4828-86BA-33E828E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615-723F-45E0-AB45-550E6B15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2" marL="971280" indent="-1940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3" marL="1360080" indent="-1940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4" marL="1748520" indent="-194040">
              <a:spcBef>
                <a:spcPts val="11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5" marL="1748520" indent="-1940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6" marL="1748520" indent="-1940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F67E-BE9D-4E39-BEF9-FA663749C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輔導處重點報告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各項學生輔導方案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中輟學生通報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學程、技藝專班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競賽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高中升學輔導方案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家長日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一、各項學生輔導方案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中輟高風險學生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高關懷班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適應不良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案認輔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家庭急難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校社工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特教服務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習資源中心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各類議題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小團體及各項活動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二、中輟學生通報。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連續三日或累計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49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節課無故缺席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表註明中輟時間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立刻通知輔導處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333399"/>
                </a:solidFill>
                <a:uFillTx/>
                <a:latin typeface="Arial"/>
              </a:rPr>
              <a:t>三、國三技藝學程、技藝專班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程：動力機械、家政職群、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商管職群。週四上課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地點：協和工商、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光隆家商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班：餐旅職群、食品職群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週二、四上課、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地點：培德高職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學程遴輔會：校務會議後召開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專班檢討會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/20(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)13:15~14:0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0492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333399"/>
                </a:solidFill>
                <a:uFillTx/>
                <a:latin typeface="Arial"/>
                <a:ea typeface="標楷體"/>
              </a:rPr>
              <a:t>三、國三技藝學程、技藝專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四、新北市技藝競賽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參加人數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4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競賽類別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項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去年成績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人獲佳作以上名次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五、高中升學輔導方案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繁星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大學四技個人申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習輔導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模擬面試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心理測驗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六、家長日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/6(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晚間：國中部，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/10(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日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下午：高中部。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685800" indent="-68580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活動流程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3276720"/>
          <a:ext cx="8534520" cy="3224160"/>
        </p:xfrm>
        <a:graphic>
          <a:graphicData uri="http://schemas.openxmlformats.org/drawingml/2006/table">
            <a:tbl>
              <a:tblPr/>
              <a:tblGrid>
                <a:gridCol w="2133720"/>
                <a:gridCol w="3276360"/>
                <a:gridCol w="3124440"/>
              </a:tblGrid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家長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/</a:t>
                      </a: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教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地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第一小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班級親師懇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各班教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第二小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專題講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視聽教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第三小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校長綜合座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會議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校長暨各處室行政同仁，須於親師懇談時段巡訪各班，以便及時解答相關問題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  <a:ea typeface="標楷體"/>
              </a:rPr>
              <a:t>六、家長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8635</cp:lastModifiedBy>
  <dcterms:modified xsi:type="dcterms:W3CDTF">2013-02-17T01:06:39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